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6DA-685A-4981-818D-8E5BA71E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EBA-A660-435E-98FC-9A3EF3F6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ECED-0944-4F83-BE4B-F47FFD69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FDC-85EC-4E5F-BA90-826B02F94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3EBD-293E-4DB7-8973-A1FB5F9C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9952-F6A7-4134-878C-4CA7EBD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6A2-3E83-4741-A822-E5BEEED9B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75FB-8465-49C3-A550-B45434FF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8DF4-C804-4E40-8E61-D02F2926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AAA3-8E4C-457A-AD20-F0A31BA2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C4FC-CF7F-4DD1-8CAD-C72F7C8D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4CB-7BEE-482F-94F8-31941820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3292-E98B-467A-953F-D3559B32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0566-161E-453C-904C-1D093350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3CD-1D9E-4B77-AF58-03ADC0C8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D0CF-B2AF-4454-8684-9FFFAC1B7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E61C-F456-40AD-A06D-459EBD7A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1E2A-D717-4A20-9147-2699839A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EDB3-8666-40DF-9A45-F2B3DA9C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A19D-D171-42AF-9367-42DEEE7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63F-A815-46ED-8720-DD69A681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F8D-9106-49DA-BA86-DF3242EB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2348-AF0C-4A90-BEE4-7A57D5EE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1B7-3F88-49B4-A1B9-E308D95E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129F-EC6C-4C01-841F-401593BA9BA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D0C-6F3F-4924-91A0-94D4E638EA6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javascript:abrirFotoSG(%22MS102.jpg%22,%22MICR%D3FONO+NGS+MS102+MICR%D3FONO+DE+SOBREMESA%22);" TargetMode="Externa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javascript:abrirFotoSG(%22269059.jpg%22,%22WEBCAM+PC+LINE+300K+NB+CON+AURICULARES%22);" TargetMode="External"/><Relationship Id="rId2" Type="http://schemas.openxmlformats.org/officeDocument/2006/relationships/image" Target="../media/image2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345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ineta BT"/>
              </a:rPr>
              <a:t>PRODUCTOS PARA LA EMPRESA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213372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2060640"/>
            <a:ext cx="640872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1" action="ppaction://hlinksldjump"/>
              </a:rPr>
              <a:t>Micrófo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Cáma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Proye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Pantall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Ordenadores portát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TV gran tamañ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Ordenadores comple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Ordenadores completos M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S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ineta BT"/>
              </a:rPr>
              <a:t>SAI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3 unidades (50€/u)= 150€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APC Back-UPS CS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500VA/300W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trada 230V/ Salida 230V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Interface Port DB-9 RS-232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USB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1 unidad = 50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2724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Pinche para cerrar"/>
          <p:cNvPicPr/>
          <p:nvPr/>
        </p:nvPicPr>
        <p:blipFill>
          <a:blip r:embed="rId1"/>
          <a:stretch/>
        </p:blipFill>
        <p:spPr>
          <a:xfrm>
            <a:off x="6372360" y="2349360"/>
            <a:ext cx="1904760" cy="2857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79600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Vineta BT"/>
              </a:rPr>
              <a:t>Presupuesto total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precio total asciende a una cantidad 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43.223´65€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ineta BT"/>
              </a:rPr>
              <a:t>Micrófono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267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icrófono omnidireccion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BS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Sensibilidad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105 DB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• 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Respuesta de frecuenci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50-16000 Hz 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4 unidades (10,99€/u)= 43,96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MICRÓFONO NGS MS102 MICRÓFONO DE SOBREME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78520" y="1557360"/>
            <a:ext cx="2708280" cy="3095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451640" y="6165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ineta BT"/>
              </a:rPr>
              <a:t>Cámara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5040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• 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cam CMOS 300K con auricular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  640X480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  Formato de video AVI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  USB 1.1"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•  Auriculares incluido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 unidades (15€/u)= 60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WEBCAM PC LINE 300K NB CON AURICULA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844640"/>
            <a:ext cx="2884320" cy="3295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311240" y="623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ineta BT"/>
              </a:rPr>
              <a:t>Proyector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mensiones : 220 an x 71 al x 178 fndo mm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so: 1,5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Brillo 2.500 LUMEN AN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maño de Pantalla 33” – 260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olución Nativa: 800 X 600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solución Máxima Admisible: 1600 x 1050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raste: 2.000:1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iempo Vida Lámpara 3.000h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1 unidad = 396,54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LG DS325G"/>
          <p:cNvPicPr/>
          <p:nvPr/>
        </p:nvPicPr>
        <p:blipFill>
          <a:blip r:embed="rId1"/>
          <a:stretch/>
        </p:blipFill>
        <p:spPr>
          <a:xfrm>
            <a:off x="4716360" y="2997360"/>
            <a:ext cx="4427640" cy="29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651640" y="198900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LG DS325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66880" y="62373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Vineta BT"/>
              </a:rPr>
              <a:t>Pantalla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SAG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2276640"/>
          <a:ext cx="482436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276640"/>
                    <a:ext cx="482436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3635640" cy="2820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651640" y="5516640"/>
            <a:ext cx="324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80000" y="558972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1 unidad =70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1124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ineta BT"/>
              </a:rPr>
              <a:t>Ordenadores portátil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memoria RAM de 2Gb y un disco duro de 160Gb. Su pantalla es de 15,4"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rocesador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AMD Mobile Turion64 X2 TL58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Pantalla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15.4” CrystalBrite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RAM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2 GB DDR II – 667Mhz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Tarjeta gráfica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ATI Radeon X1250 </a:t>
            </a: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Windows Vista Home Premi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Bateria Ion de Liti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Peso 2.9 kg, Dimensiones ( 35.8cm x 26.5cm x 3.6cm 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Disco Duro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160GB 5400rpm </a:t>
            </a:r>
            <a:br>
              <a:rPr sz="2200"/>
            </a:br>
            <a:br>
              <a:rPr sz="2200"/>
            </a:b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3 unidades (270€/u) =  810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Acer 5520 Portátil. En The Phone House puedes comprar telefonos moviles, ofertas y promociones adsl, accesorios de moviles"/>
          <p:cNvPicPr/>
          <p:nvPr/>
        </p:nvPicPr>
        <p:blipFill>
          <a:blip r:embed="rId1"/>
          <a:stretch/>
        </p:blipFill>
        <p:spPr>
          <a:xfrm>
            <a:off x="6227640" y="2852640"/>
            <a:ext cx="2530440" cy="2952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43640" y="170028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CER 55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45416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ineta BT"/>
              </a:rPr>
              <a:t>TV gran tamañ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C 46 DH 65 E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igh Definition (alta defini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ntalla de 46 pulg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1 unidad = 1500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3280" y="2421000"/>
            <a:ext cx="4038840" cy="28749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1557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160" y="616572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Vineta BT"/>
              </a:rPr>
              <a:t>Ordenador completo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ador Pentium E2220 2.4GH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oria de 4 G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o duro 500 G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ndows Vista Premium.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24 unidades(484,997u)=11637,38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19640" y="24922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219640" y="170028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ffff"/>
                </a:solidFill>
                <a:uFillTx/>
                <a:latin typeface="Arial"/>
              </a:rPr>
              <a:t>Ordenador Medion MD7168P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82880" y="6308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Vineta BT"/>
              </a:rPr>
              <a:t>Ordenador completo (MAC)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2D-2.66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co duro 320G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moria  2GB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IN DVD±RW OS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5229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APPLE COMPUTER IMA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11240" y="609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Índ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021120" cy="4530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53000" y="463248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 unidades (1.300€/u)= 13.000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0:34:42Z</dcterms:created>
  <dc:creator>Usuario</dc:creator>
  <dc:description/>
  <dc:language>en-US</dc:language>
  <cp:lastModifiedBy>Usuario</cp:lastModifiedBy>
  <dcterms:modified xsi:type="dcterms:W3CDTF">2009-10-20T10:55:01Z</dcterms:modified>
  <cp:revision>21</cp:revision>
  <dc:subject/>
  <dc:title>Diapositiva 1</dc:title>
</cp:coreProperties>
</file>