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5D2507-3A68-4496-A248-C4E775204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CFE838-5154-484F-A0F2-15D64FE03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6F90D6-8F9B-4DD8-961B-4E53438C0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A8CB93-C41C-4AC6-AA12-DE3FA497F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77D14-F85B-4CD0-A537-947B75099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8EFA9-6A5E-4301-AD36-565974CA6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0621D-F02F-491A-9EA6-0C6342FAB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AEEC0-DE8A-4900-944B-B97B3BEC7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A3AF8-E7DB-49C5-AD54-9454D7249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4CDF3-EDCA-416D-9D55-0A87DC91B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7FD00-4495-4B51-984B-AAD496091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8DA12F-1A87-4310-B03F-C9F1EBDEA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B89DF-A6D3-4EA9-8833-1065B7110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751F6-94EE-496C-9C45-38A51499B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C00F8-3620-449A-8E7D-A14DC47EC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2CC18-B88C-4468-9EB0-182D4F5FC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0E61E-4FA9-41D5-AC48-64799612D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ADC724-D023-4588-9131-CCE4D4098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4538A1-16E2-4E31-9CA2-2D15D7D0B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9CE2B3-A781-42C5-BAF2-540D6A056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460EA6-95D7-4198-9141-C6439096C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924680-F144-4A75-928A-524CD69BF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1D0414-C96E-4AC1-9C3E-EE51D5089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B61E77-A102-44D4-8A67-B909A5CE8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84AA0-C43E-46F5-A8A7-4CCFB5F6218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7" name="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A6BDA-93AD-4ED0-9882-81C85AC9977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63" name="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lg.com.mx/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panasonic.com/business/plasma/plasmas.asp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es.wikipedia.org/wiki/Corriente_continua" TargetMode="External"/><Relationship Id="rId2" Type="http://schemas.openxmlformats.org/officeDocument/2006/relationships/hyperlink" Target="http://es.wikipedia.org/wiki/Corriente_alterna" TargetMode="External"/><Relationship Id="rId3" Type="http://schemas.openxmlformats.org/officeDocument/2006/relationships/hyperlink" Target="http://es.wikipedia.org/wiki/Inversor_(Electricidad)" TargetMode="External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es.wikipedia.org/wiki/IEEE_802.11" TargetMode="External"/><Relationship Id="rId2" Type="http://schemas.openxmlformats.org/officeDocument/2006/relationships/hyperlink" Target="http://es.wikipedia.org/wiki/Wireless" TargetMode="External"/><Relationship Id="rId3" Type="http://schemas.openxmlformats.org/officeDocument/2006/relationships/hyperlink" Target="http://es.wikipedia.org/wiki/Criptolog&#237;a" TargetMode="External"/><Relationship Id="rId4" Type="http://schemas.openxmlformats.org/officeDocument/2006/relationships/hyperlink" Target="http://es.wikipedia.org/wiki/Informaci&#243;n" TargetMode="External"/><Relationship Id="rId5" Type="http://schemas.openxmlformats.org/officeDocument/2006/relationships/hyperlink" Target="http://es.wikipedia.org/wiki/RC4" TargetMode="External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es.wikipedia.org/wiki/Wi-Fi" TargetMode="External"/><Relationship Id="rId2" Type="http://schemas.openxmlformats.org/officeDocument/2006/relationships/hyperlink" Target="http://es.wikipedia.org/wiki/Wi-Fi" TargetMode="External"/><Relationship Id="rId3" Type="http://schemas.openxmlformats.org/officeDocument/2006/relationships/hyperlink" Target="http://es.wikipedia.org/wiki/Wi-Fi" TargetMode="External"/><Relationship Id="rId4" Type="http://schemas.openxmlformats.org/officeDocument/2006/relationships/hyperlink" Target="http://es.wikipedia.org/wiki/WEP" TargetMode="External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es.wikipedia.org/wiki/Computadora" TargetMode="External"/><Relationship Id="rId2" Type="http://schemas.openxmlformats.org/officeDocument/2006/relationships/hyperlink" Target="http://es.wikipedia.org/wiki/Computadora_port&#225;til" TargetMode="External"/><Relationship Id="rId3" Type="http://schemas.openxmlformats.org/officeDocument/2006/relationships/hyperlink" Target="http://es.wikipedia.org/wiki/PDA" TargetMode="External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800" spc="-1" strike="noStrike">
                <a:solidFill>
                  <a:srgbClr val="ccecff"/>
                </a:solidFill>
                <a:latin typeface="BankGothic Md BT"/>
              </a:rPr>
              <a:t>PROYECTORES</a:t>
            </a:r>
            <a:endParaRPr b="0" lang="en-US" sz="6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68360" y="1844280"/>
            <a:ext cx="820728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 u="sng">
                <a:solidFill>
                  <a:srgbClr val="ccecff"/>
                </a:solidFill>
                <a:uFillTx/>
                <a:latin typeface="Arial"/>
              </a:rPr>
              <a:t>LCD: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Esta tecnología es más antigua y requiere más espacio,  pero es superior en cuanto a la fidelidad e intensidad de los colores.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r>
              <a:rPr b="0" lang="en-US" sz="3400" spc="-1" strike="noStrike" u="sng">
                <a:solidFill>
                  <a:srgbClr val="ccecff"/>
                </a:solidFill>
                <a:uFillTx/>
                <a:latin typeface="Arial"/>
              </a:rPr>
              <a:t>DLP: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on esta tecnología se logra mejor contraste,  es decir el blanco es más blanco y el negro más negro,  aunque los colores eran menos intensos 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900" spc="-1" strike="noStrike" u="sng">
                <a:solidFill>
                  <a:srgbClr val="ccecff"/>
                </a:solidFill>
                <a:uFillTx/>
                <a:latin typeface="Arial"/>
              </a:rPr>
              <a:t>LG DX630</a:t>
            </a: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676520" y="1981080"/>
            <a:ext cx="3440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ffffff"/>
                </a:solidFill>
                <a:uFillTx/>
                <a:latin typeface="Arial"/>
              </a:rPr>
              <a:t>Tecnología </a:t>
            </a:r>
            <a:r>
              <a:rPr b="1" lang="es-ES" sz="2000" spc="-1" strike="noStrike" u="sng">
                <a:solidFill>
                  <a:srgbClr val="ffffff"/>
                </a:solidFill>
                <a:uFillTx/>
                <a:latin typeface="Arial"/>
              </a:rPr>
              <a:t>DLP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Brillo: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3,000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lúmen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eso: 3.4 Kg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Resolución 1024x768 XGA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ompresión1400x1050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Alto contraste 2,300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Lámpara hasta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3 mil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hr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ontrol Remoto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" descr="Boxligh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181480" y="2859120"/>
            <a:ext cx="3187800" cy="217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900" spc="-1" strike="noStrike">
                <a:solidFill>
                  <a:srgbClr val="ccecff"/>
                </a:solidFill>
                <a:latin typeface="BankGothic Md BT"/>
              </a:rPr>
              <a:t>PANTALLAS</a:t>
            </a:r>
            <a:endParaRPr b="0" lang="en-US" sz="5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900" spc="-1" strike="noStrike" u="sng">
                <a:solidFill>
                  <a:srgbClr val="ccecff"/>
                </a:solidFill>
                <a:uFillTx/>
                <a:latin typeface="Arial"/>
              </a:rPr>
              <a:t>58"  TH-58PH10UK</a:t>
            </a: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676520" y="1981080"/>
            <a:ext cx="3440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Imagen de  58" 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Resolución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1366 x 768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Widescreen 16:9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Alto Contraste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10,000 : 1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Vida 60,000 horas (20 años)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Recuadro (picture in picture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Compatible VGA,SVGA,XGA,SXGA,UXG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HDTV  480p, 720p, 1080i 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rofundidad de sólo 9.5 cm (3.7"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" descr="Página de Panasonic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672160" y="2400480"/>
            <a:ext cx="29433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900" spc="-1" strike="noStrike">
                <a:solidFill>
                  <a:srgbClr val="ccecff"/>
                </a:solidFill>
                <a:latin typeface="BankGothic Lt BT"/>
              </a:rPr>
              <a:t>SAI</a:t>
            </a:r>
            <a:endParaRPr b="0" lang="en-US" sz="5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istemas de Alimentación Ininterrumpid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ccecff"/>
                </a:solidFill>
                <a:uFillTx/>
                <a:latin typeface="Arial"/>
              </a:rPr>
              <a:t>CONTINUA: </a:t>
            </a:r>
            <a:r>
              <a:rPr b="0" lang="es-ES" sz="1900" spc="-1" strike="noStrike">
                <a:solidFill>
                  <a:srgbClr val="ffffff"/>
                </a:solidFill>
                <a:latin typeface="Arial"/>
              </a:rPr>
              <a:t>Las cargas conectadas a los SAI requieren una alimentación de </a:t>
            </a:r>
            <a:r>
              <a:rPr b="0" lang="es-ES" sz="1900" spc="-1" strike="noStrike" u="sng">
                <a:solidFill>
                  <a:srgbClr val="3399ff"/>
                </a:solidFill>
                <a:uFillTx/>
                <a:latin typeface="Arial"/>
                <a:hlinkClick r:id="rId1"/>
              </a:rPr>
              <a:t>corriente continua</a:t>
            </a:r>
            <a:r>
              <a:rPr b="0" lang="es-ES" sz="1900" spc="-1" strike="noStrike">
                <a:solidFill>
                  <a:srgbClr val="ffffff"/>
                </a:solidFill>
                <a:latin typeface="Arial"/>
              </a:rPr>
              <a:t>, por lo tanto éstos transformarán la </a:t>
            </a:r>
            <a:r>
              <a:rPr b="0" lang="es-ES" sz="1900" spc="-1" strike="noStrike" u="sng">
                <a:solidFill>
                  <a:srgbClr val="3399ff"/>
                </a:solidFill>
                <a:uFillTx/>
                <a:latin typeface="Arial"/>
                <a:hlinkClick r:id="rId2"/>
              </a:rPr>
              <a:t>corriente alterna</a:t>
            </a:r>
            <a:r>
              <a:rPr b="0" lang="es-ES" sz="1900" spc="-1" strike="noStrike">
                <a:solidFill>
                  <a:srgbClr val="ffffff"/>
                </a:solidFill>
                <a:latin typeface="Arial"/>
              </a:rPr>
              <a:t> de la red comercial a corriente continua y la usarán para alimentar a la carga y almacenarla en sus baterías. Por lo tanto no requieren convertidores entre las baterías y las cargas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ccecff"/>
                </a:solidFill>
                <a:uFillTx/>
                <a:latin typeface="Arial"/>
              </a:rPr>
              <a:t>ALTERNA: </a:t>
            </a:r>
            <a:r>
              <a:rPr b="0" lang="es-ES" sz="1900" spc="-1" strike="noStrike">
                <a:solidFill>
                  <a:srgbClr val="ffffff"/>
                </a:solidFill>
                <a:latin typeface="Arial"/>
              </a:rPr>
              <a:t>Estos SAI obtienen a su salida una señal alterna, por lo que necesitan un </a:t>
            </a:r>
            <a:r>
              <a:rPr b="0" lang="es-ES" sz="1900" spc="-1" strike="noStrike" u="sng">
                <a:solidFill>
                  <a:srgbClr val="3399ff"/>
                </a:solidFill>
                <a:uFillTx/>
                <a:latin typeface="Arial"/>
                <a:hlinkClick r:id="rId3"/>
              </a:rPr>
              <a:t>inversor</a:t>
            </a:r>
            <a:r>
              <a:rPr b="0" lang="es-ES" sz="19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0" lang="es-ES" sz="1900" spc="-1" strike="noStrike">
                <a:solidFill>
                  <a:srgbClr val="ffffff"/>
                </a:solidFill>
                <a:latin typeface="Arial"/>
              </a:rPr>
              <a:t>para transformar la señal continua que proviene de las baterías en una señal alterna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900" spc="-1" strike="noStrike" u="sng">
                <a:solidFill>
                  <a:srgbClr val="ccecff"/>
                </a:solidFill>
                <a:uFillTx/>
                <a:latin typeface="Arial"/>
              </a:rPr>
              <a:t>SAI CONTINUA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676160" y="1981080"/>
            <a:ext cx="7010280" cy="41148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2411280" y="2205000"/>
            <a:ext cx="388800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900" spc="-1" strike="noStrike">
                <a:solidFill>
                  <a:srgbClr val="ccecff"/>
                </a:solidFill>
                <a:latin typeface="Arial"/>
              </a:rPr>
              <a:t>ENCRIPTACIÓN WIFI</a:t>
            </a:r>
            <a:endParaRPr b="0" lang="en-US" sz="5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s-ES" sz="1800" spc="-1" strike="noStrike" u="sng">
                <a:solidFill>
                  <a:srgbClr val="ccecff"/>
                </a:solidFill>
                <a:uFillTx/>
                <a:latin typeface="Arial"/>
              </a:rPr>
              <a:t>WEP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acrónimo de </a:t>
            </a:r>
            <a:r>
              <a:rPr b="0" i="1" lang="es-ES" sz="1800" spc="-1" strike="noStrike">
                <a:solidFill>
                  <a:srgbClr val="ffffff"/>
                </a:solidFill>
                <a:latin typeface="Arial"/>
              </a:rPr>
              <a:t>Wired Equivalent Privacy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o "Privacidad Equivalente a Cableado", es el sistema de cifrado incluido en el estándar </a:t>
            </a:r>
            <a:r>
              <a:rPr b="0" lang="es-ES" sz="1800" spc="-1" strike="noStrike" u="sng">
                <a:solidFill>
                  <a:srgbClr val="3399ff"/>
                </a:solidFill>
                <a:uFillTx/>
                <a:latin typeface="Arial"/>
                <a:hlinkClick r:id="rId1"/>
              </a:rPr>
              <a:t>IEEE 802.11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como protocolo para redes </a:t>
            </a:r>
            <a:r>
              <a:rPr b="0" lang="es-ES" sz="1800" spc="-1" strike="noStrike" u="sng">
                <a:solidFill>
                  <a:srgbClr val="3399ff"/>
                </a:solidFill>
                <a:uFillTx/>
                <a:latin typeface="Arial"/>
                <a:hlinkClick r:id="rId2"/>
              </a:rPr>
              <a:t>Wireless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que permite </a:t>
            </a:r>
            <a:r>
              <a:rPr b="0" lang="es-ES" sz="1800" spc="-1" strike="noStrike" u="sng">
                <a:solidFill>
                  <a:srgbClr val="3399ff"/>
                </a:solidFill>
                <a:uFillTx/>
                <a:latin typeface="Arial"/>
                <a:hlinkClick r:id="rId3"/>
              </a:rPr>
              <a:t>cifrar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la </a:t>
            </a:r>
            <a:r>
              <a:rPr b="0" lang="es-ES" sz="1800" spc="-1" strike="noStrike" u="sng">
                <a:solidFill>
                  <a:srgbClr val="3399ff"/>
                </a:solidFill>
                <a:uFillTx/>
                <a:latin typeface="Arial"/>
                <a:hlinkClick r:id="rId4"/>
              </a:rPr>
              <a:t>información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que se transmite. Proporciona un cifrado a nivel 2, basado en el algoritmo de cifrado </a:t>
            </a:r>
            <a:r>
              <a:rPr b="0" lang="es-ES" sz="1800" spc="-1" strike="noStrike" u="sng">
                <a:solidFill>
                  <a:srgbClr val="3399ff"/>
                </a:solidFill>
                <a:uFillTx/>
                <a:latin typeface="Arial"/>
                <a:hlinkClick r:id="rId5"/>
              </a:rPr>
              <a:t>RC4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que utiliza claves de 64 bits (40 bits más 24 bits del vector de iniciación </a:t>
            </a:r>
            <a:r>
              <a:rPr b="0" i="1" lang="es-ES" sz="1800" spc="-1" strike="noStrike">
                <a:solidFill>
                  <a:srgbClr val="ffffff"/>
                </a:solidFill>
                <a:latin typeface="Arial"/>
              </a:rPr>
              <a:t>IV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) o de 128 bits (104 bits más 24 bits del IV). Los mensajes de difusión de las redes inalámbricas se transmiten por ondas de radio, lo que los hace más susceptibles,frente a las redes cableadas, de ser captados con relativa facilidad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lang="es-ES" sz="18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ccecff"/>
                </a:solidFill>
                <a:uFillTx/>
                <a:latin typeface="Arial"/>
              </a:rPr>
              <a:t>WPA:</a:t>
            </a:r>
            <a:r>
              <a:rPr b="1" lang="es-ES" sz="18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WPA (Wi-Fi Protected Access - 1995 - Acceso Protegido Wi-Fi) es un sistema para proteger las redes inalámbricas (</a:t>
            </a:r>
            <a:r>
              <a:rPr b="0" lang="es-ES" sz="1800" spc="-1" strike="noStrike" u="sng">
                <a:solidFill>
                  <a:srgbClr val="3399ff"/>
                </a:solidFill>
                <a:uFillTx/>
                <a:latin typeface="Arial"/>
                <a:hlinkClick r:id="rId1"/>
              </a:rPr>
              <a:t>Wi</a:t>
            </a:r>
            <a:r>
              <a:rPr b="0" lang="es-ES" sz="1800" spc="-1" strike="noStrike" u="sng">
                <a:solidFill>
                  <a:srgbClr val="3399ff"/>
                </a:solidFill>
                <a:uFillTx/>
                <a:latin typeface="Arial"/>
                <a:hlinkClick r:id="rId2"/>
              </a:rPr>
              <a:t>-</a:t>
            </a:r>
            <a:r>
              <a:rPr b="0" lang="es-ES" sz="1800" spc="-1" strike="noStrike" u="sng">
                <a:solidFill>
                  <a:srgbClr val="3399ff"/>
                </a:solidFill>
                <a:uFillTx/>
                <a:latin typeface="Arial"/>
                <a:hlinkClick r:id="rId3"/>
              </a:rPr>
              <a:t>Fi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); creado para corregir las deficiencias del sistema previo </a:t>
            </a:r>
            <a:r>
              <a:rPr b="0" lang="es-ES" sz="1800" spc="-1" strike="noStrike" u="sng">
                <a:solidFill>
                  <a:srgbClr val="3399ff"/>
                </a:solidFill>
                <a:uFillTx/>
                <a:latin typeface="Arial"/>
                <a:hlinkClick r:id="rId4"/>
              </a:rPr>
              <a:t>WEP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(Wired Equivalent Privacy - Privacidad Equivalente a Cableado). WPA adopta la autentificación de usuarios mediante el uso de un servidor, donde se almacenan las credenciales y contraseñas de los usuarios de la red. Para no obligar al uso de tal servidor para el despliegue de redes, WPA permite la autentificación mediante clave compartida ([PSK], Pre-Shared Key), que de un modo similar al WEP, requiere introducir la misma clave en todo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900" spc="-1" strike="noStrike">
                <a:solidFill>
                  <a:srgbClr val="ccecff"/>
                </a:solidFill>
                <a:latin typeface="Arial"/>
              </a:rPr>
              <a:t>PORTÁTILES</a:t>
            </a:r>
            <a:endParaRPr b="0" lang="en-US" sz="5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676520" y="1981080"/>
            <a:ext cx="3440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ccecff"/>
                </a:solidFill>
                <a:uFillTx/>
                <a:latin typeface="Arial"/>
              </a:rPr>
              <a:t>Ligeros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Son los más fáciles de llevar pero no suelen tener mucha potencia debido a que este tipo de portátiles suelen ser extrafinos.</a:t>
            </a:r>
            <a:br>
              <a:rPr sz="1800"/>
            </a:br>
            <a:br>
              <a:rPr sz="1800"/>
            </a:br>
            <a:r>
              <a:rPr b="1" lang="es-ES" sz="1800" spc="-1" strike="noStrike" u="sng">
                <a:solidFill>
                  <a:srgbClr val="ffffff"/>
                </a:solidFill>
                <a:uFillTx/>
                <a:latin typeface="Arial"/>
              </a:rPr>
              <a:t>De mesa: </a:t>
            </a: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Para uso doméstico.</a:t>
            </a:r>
            <a:br>
              <a:rPr sz="1400"/>
            </a:br>
            <a:br>
              <a:rPr sz="1400"/>
            </a:br>
            <a:r>
              <a:rPr b="1" lang="es-ES" sz="1800" spc="-1" strike="noStrike" u="sng">
                <a:solidFill>
                  <a:srgbClr val="ffffff"/>
                </a:solidFill>
                <a:uFillTx/>
                <a:latin typeface="Arial"/>
              </a:rPr>
              <a:t>Tablet:</a:t>
            </a:r>
            <a:r>
              <a:rPr b="1" lang="es-ES" sz="14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Un Tablet PC es una </a:t>
            </a:r>
            <a:r>
              <a:rPr b="0" lang="es-ES" sz="1400" spc="-1" strike="noStrike" u="sng">
                <a:solidFill>
                  <a:srgbClr val="3399ff"/>
                </a:solidFill>
                <a:uFillTx/>
                <a:latin typeface="Arial"/>
                <a:hlinkClick r:id="rId1"/>
              </a:rPr>
              <a:t>computadora</a:t>
            </a: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 a medio camino entre una </a:t>
            </a:r>
            <a:r>
              <a:rPr b="0" lang="es-ES" sz="1400" spc="-1" strike="noStrike" u="sng">
                <a:solidFill>
                  <a:srgbClr val="3399ff"/>
                </a:solidFill>
                <a:uFillTx/>
                <a:latin typeface="Arial"/>
                <a:hlinkClick r:id="rId2"/>
              </a:rPr>
              <a:t>computadora portátil</a:t>
            </a: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 y un </a:t>
            </a:r>
            <a:r>
              <a:rPr b="0" lang="es-ES" sz="1400" spc="-1" strike="noStrike" u="sng">
                <a:solidFill>
                  <a:srgbClr val="3399ff"/>
                </a:solidFill>
                <a:uFillTx/>
                <a:latin typeface="Arial"/>
                <a:hlinkClick r:id="rId3"/>
              </a:rPr>
              <a:t>PDA</a:t>
            </a: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, en el que se puede escribir a través de una pantalla táctil. Un usuario puede utilizar un estilete (o stylus) para trabajar con el ordenador sin necesidad de teclado o ratón</a:t>
            </a: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246640" y="2662200"/>
            <a:ext cx="3440160" cy="34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4"/>
          <a:stretch/>
        </p:blipFill>
        <p:spPr>
          <a:xfrm>
            <a:off x="5435640" y="1484280"/>
            <a:ext cx="2592360" cy="23227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5"/>
          <a:stretch/>
        </p:blipFill>
        <p:spPr>
          <a:xfrm>
            <a:off x="5508720" y="3933720"/>
            <a:ext cx="3030480" cy="20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4T11:05:03Z</dcterms:created>
  <dc:creator>Usuario</dc:creator>
  <dc:description/>
  <dc:language>en-US</dc:language>
  <cp:lastModifiedBy>Usuario</cp:lastModifiedBy>
  <dcterms:modified xsi:type="dcterms:W3CDTF">2009-09-28T08:56:50Z</dcterms:modified>
  <cp:revision>7</cp:revision>
  <dc:subject/>
  <dc:title>PROYECTORES</dc:title>
</cp:coreProperties>
</file>